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194E-2057-4E36-9D8A-3D01C6886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2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on 8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F3D6-5256-425A-9CD0-4DC50FD10E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FA9-DAA7-4076-BAA3-C620C5DF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229-C0A1-4B31-B03E-57386DBC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0BC-48DD-48A1-B543-00370DCF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F0C-AB32-4A6D-AA5F-97551D4D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1650-805E-4509-A998-564F2015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EB25-CBD4-496E-A3B2-9761B0A4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1AA0-D324-4CE8-8837-0347F064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810F-34C3-485D-87E3-CAA190C5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6586-B51F-4C47-BAE7-C3700C97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6C89-9881-4BA5-A9A9-BFB4ED14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804B-49CC-46F8-858E-76AB7338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2A1-93C5-490D-B312-91889D10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800D-445B-4AB6-BEAD-D59C52EA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FB8B-3073-465F-B0D9-6B34FAF0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66C2-F449-4AA1-8A68-22C3EAF2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E0C4-9179-49E8-A303-0E74EA66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FAEF-854E-4807-A054-B15E5B45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54B8F-5ADD-4A21-A72D-16F6F015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FDC9E-2FFB-4447-9C71-8CF1F437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90897-6883-4AEE-B13B-90286CB7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4846-6618-4B1F-B266-7FE53CD6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3F92C-B2FC-4422-A849-24B41DFF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D1A-FB8C-4318-A163-DE2A29A0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E3F39-7D76-4833-8F61-7A2860F9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0C219-B84F-4340-8315-0D554335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E26F5-12B1-4C22-BDA1-8A34C517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A029C-910E-4D2C-9052-16A9DC8A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8E16-500D-458B-AF83-9B171F32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AD1AC-14FB-4852-9170-CC8521B8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C451C-C57F-4111-8353-B1B4DD0E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F8F-F238-407F-8C23-2ACC552C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3AC-ED5A-4959-BB57-709430E4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C3D-C41F-4AA2-B0BC-140FE964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7B9-256C-415D-B865-994D3F42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C83-B65C-4D29-A36A-9777488B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6B1-C1EF-4182-BFA1-13D4DF2E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9920" indent="-25992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31360" indent="-27144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791280" indent="-2599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1051560" indent="-25992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311480" indent="-25992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5" marL="1311480" indent="-25992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6" marL="1311480" indent="-25992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58827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0A20-EB57-48E7-8F13-1FA7F52FF2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5240" y="58827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5882760"/>
            <a:ext cx="685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AFCD-2D55-4548-BFFF-782496A4B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9920" indent="-25992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31360" indent="-27144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791280" indent="-2599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1051560" indent="-25992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311480" indent="-25992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5" marL="1311480" indent="-25992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6" marL="1311480" indent="-25992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732720" y="58827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2B98-45FC-43E3-AC25-211D5A184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5240" y="58827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228920" y="5882760"/>
            <a:ext cx="685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2323-D13E-4AD0-B18B-72523A9E5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9920" indent="-25992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31360" indent="-27144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791280" indent="-2599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1051560" indent="-25992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311480" indent="-25992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5" marL="1311480" indent="-25992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6" marL="1311480" indent="-25992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732720" y="58827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1A9B-82C2-4F0C-86D9-FD71137E763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55240" y="58827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228920" y="5882760"/>
            <a:ext cx="685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9ADB-A716-4F17-ACDF-02E515A2D0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onstantia"/>
              </a:rPr>
              <a:t>Financial Statements</a:t>
            </a:r>
            <a:endParaRPr b="1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Balance Sheet and Income Statemen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57200" y="2286000"/>
            <a:ext cx="83059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ll financial information must be reported to make good business decisions.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Businesses use Financial Statements to summarize, organize and report the company’s financial standing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nstantia"/>
              </a:rPr>
              <a:t>Income Statemen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1080" indent="-271080">
              <a:spcBef>
                <a:spcPts val="2001"/>
              </a:spcBef>
              <a:buSzPct val="102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Reports financial information over a fiscal period, indicating the financial progress of a business in earning a net loss or net incom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1080" indent="-271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1080" indent="-271080">
              <a:spcBef>
                <a:spcPts val="2001"/>
              </a:spcBef>
              <a:buSzPct val="102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e revenue earned and the expenses incurred to earn the revenue must be reported in the same fiscal period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271080" indent="-27108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Sections of th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Income Statemen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13372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nstantia"/>
              </a:rPr>
              <a:t>1.) Heading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nstantia"/>
              </a:rPr>
              <a:t>2.) Revenue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nstantia"/>
              </a:rPr>
              <a:t>3.) Expenses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nstantia"/>
              </a:rPr>
              <a:t>4.) Net Income or Net Loss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231040" cy="15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INCOME STATEMENT INFORMATION ON A WORK SHEET</a:t>
            </a:r>
            <a:endParaRPr b="1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Picture 3" descr="D:\C21 PowerPoint\Multi_Journal\art for blue\Ch08\Ch08-01a.jpg"/>
          <p:cNvPicPr/>
          <p:nvPr/>
        </p:nvPicPr>
        <p:blipFill>
          <a:blip r:embed="rId2"/>
          <a:srcRect l="9774" t="11660" r="0" b="43509"/>
          <a:stretch/>
        </p:blipFill>
        <p:spPr>
          <a:xfrm>
            <a:off x="457200" y="2209680"/>
            <a:ext cx="8226360" cy="3533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8-1, page 1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HEADING OF AN INCOME STATEMENT</a:t>
            </a:r>
            <a:endParaRPr b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1" name="Picture 3" descr="D:\C21 PowerPoint\Multi_Journal\art for blue\Ch08\Ch08-01b.jpg"/>
          <p:cNvPicPr/>
          <p:nvPr/>
        </p:nvPicPr>
        <p:blipFill>
          <a:blip r:embed="rId2"/>
          <a:srcRect l="42863" t="0" r="0" b="82033"/>
          <a:stretch/>
        </p:blipFill>
        <p:spPr>
          <a:xfrm>
            <a:off x="457200" y="2209680"/>
            <a:ext cx="8229600" cy="2314800"/>
          </a:xfrm>
          <a:prstGeom prst="rect">
            <a:avLst/>
          </a:prstGeom>
          <a:ln w="0">
            <a:noFill/>
          </a:ln>
        </p:spPr>
      </p:pic>
      <p:sp>
        <p:nvSpPr>
          <p:cNvPr id="142" name="Oval 4"/>
          <p:cNvSpPr/>
          <p:nvPr/>
        </p:nvSpPr>
        <p:spPr>
          <a:xfrm>
            <a:off x="2590920" y="25146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990720" y="3581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790640" y="30481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14440" y="523404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e of Re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14440" y="44956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Name of Compa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14440" y="4861080"/>
            <a:ext cx="39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me of Re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7429320" y="723816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8-1, page 1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3104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nstantia"/>
              </a:rPr>
              <a:t>PREPARING THE INCOME STATEMENT</a:t>
            </a:r>
            <a:endParaRPr b="1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0" name="Picture 3" descr="D:\C21 PowerPoint\Multi_Journal\art for blue\Ch08\Ch08-01c.jpg"/>
          <p:cNvPicPr/>
          <p:nvPr/>
        </p:nvPicPr>
        <p:blipFill>
          <a:blip r:embed="rId2"/>
          <a:srcRect l="26650" t="0" r="0" b="48231"/>
          <a:stretch/>
        </p:blipFill>
        <p:spPr>
          <a:xfrm>
            <a:off x="457200" y="1143000"/>
            <a:ext cx="660888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228600" y="4343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e the name of the first sec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28600" y="464832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e the title of the  revenue accou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28600" y="495288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rd the balance of the accou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228600" y="52578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e the name of the second sec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28600" y="556272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e the title of each expense accou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24"/>
          <p:cNvSpPr/>
          <p:nvPr/>
        </p:nvSpPr>
        <p:spPr>
          <a:xfrm>
            <a:off x="380880" y="25909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Oval 25"/>
          <p:cNvSpPr/>
          <p:nvPr/>
        </p:nvSpPr>
        <p:spPr>
          <a:xfrm>
            <a:off x="380880" y="14479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26"/>
          <p:cNvSpPr/>
          <p:nvPr/>
        </p:nvSpPr>
        <p:spPr>
          <a:xfrm>
            <a:off x="6324480" y="16765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27"/>
          <p:cNvSpPr/>
          <p:nvPr/>
        </p:nvSpPr>
        <p:spPr>
          <a:xfrm>
            <a:off x="380880" y="19051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28"/>
          <p:cNvSpPr/>
          <p:nvPr/>
        </p:nvSpPr>
        <p:spPr>
          <a:xfrm>
            <a:off x="1295280" y="16765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29"/>
          <p:cNvSpPr/>
          <p:nvPr/>
        </p:nvSpPr>
        <p:spPr>
          <a:xfrm>
            <a:off x="4952880" y="3809880"/>
            <a:ext cx="30492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31"/>
          <p:cNvSpPr/>
          <p:nvPr/>
        </p:nvSpPr>
        <p:spPr>
          <a:xfrm>
            <a:off x="533520" y="3581280"/>
            <a:ext cx="30456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32"/>
          <p:cNvSpPr/>
          <p:nvPr/>
        </p:nvSpPr>
        <p:spPr>
          <a:xfrm>
            <a:off x="6324480" y="35053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33"/>
          <p:cNvSpPr/>
          <p:nvPr/>
        </p:nvSpPr>
        <p:spPr>
          <a:xfrm>
            <a:off x="4038480" y="3429000"/>
            <a:ext cx="30492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36"/>
          <p:cNvSpPr/>
          <p:nvPr/>
        </p:nvSpPr>
        <p:spPr>
          <a:xfrm>
            <a:off x="6324480" y="39625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Oval 37"/>
          <p:cNvSpPr/>
          <p:nvPr/>
        </p:nvSpPr>
        <p:spPr>
          <a:xfrm>
            <a:off x="4038480" y="39625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38"/>
          <p:cNvSpPr/>
          <p:nvPr/>
        </p:nvSpPr>
        <p:spPr>
          <a:xfrm>
            <a:off x="1676520" y="3886200"/>
            <a:ext cx="30456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1"/>
          <p:cNvSpPr/>
          <p:nvPr/>
        </p:nvSpPr>
        <p:spPr>
          <a:xfrm>
            <a:off x="228600" y="586728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rd the balance of each accou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2"/>
          <p:cNvSpPr/>
          <p:nvPr/>
        </p:nvSpPr>
        <p:spPr>
          <a:xfrm>
            <a:off x="228600" y="61722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le a single li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3"/>
          <p:cNvSpPr/>
          <p:nvPr/>
        </p:nvSpPr>
        <p:spPr>
          <a:xfrm>
            <a:off x="4572000" y="43434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Total Expens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4"/>
          <p:cNvSpPr/>
          <p:nvPr/>
        </p:nvSpPr>
        <p:spPr>
          <a:xfrm>
            <a:off x="4572000" y="46483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rd total expen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5"/>
          <p:cNvSpPr/>
          <p:nvPr/>
        </p:nvSpPr>
        <p:spPr>
          <a:xfrm>
            <a:off x="4419720" y="49528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lculate net incom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4419720" y="52578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le a single li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7"/>
          <p:cNvSpPr/>
          <p:nvPr/>
        </p:nvSpPr>
        <p:spPr>
          <a:xfrm>
            <a:off x="4419720" y="556272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rit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et Inco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48"/>
          <p:cNvSpPr/>
          <p:nvPr/>
        </p:nvSpPr>
        <p:spPr>
          <a:xfrm>
            <a:off x="4419720" y="58672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rd net incom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9"/>
          <p:cNvSpPr/>
          <p:nvPr/>
        </p:nvSpPr>
        <p:spPr>
          <a:xfrm>
            <a:off x="4419720" y="6172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le double lin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5286240" y="2333520"/>
            <a:ext cx="352440" cy="1219320"/>
            <a:chOff x="5286240" y="2333520"/>
            <a:chExt cx="352440" cy="1219320"/>
          </a:xfrm>
        </p:grpSpPr>
        <p:sp>
          <p:nvSpPr>
            <p:cNvPr id="178" name="Freeform 50"/>
            <p:cNvSpPr/>
            <p:nvPr/>
          </p:nvSpPr>
          <p:spPr>
            <a:xfrm>
              <a:off x="5286240" y="2333520"/>
              <a:ext cx="228600" cy="1219320"/>
            </a:xfrm>
            <a:prstGeom prst="pie">
              <a:avLst/>
            </a:pr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Oval 30"/>
            <p:cNvSpPr/>
            <p:nvPr/>
          </p:nvSpPr>
          <p:spPr>
            <a:xfrm>
              <a:off x="5334120" y="2666880"/>
              <a:ext cx="304560" cy="30492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292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Group 53"/>
          <p:cNvGrpSpPr/>
          <p:nvPr/>
        </p:nvGrpSpPr>
        <p:grpSpPr>
          <a:xfrm>
            <a:off x="6400800" y="3716280"/>
            <a:ext cx="698400" cy="304920"/>
            <a:chOff x="6400800" y="3716280"/>
            <a:chExt cx="698400" cy="304920"/>
          </a:xfrm>
        </p:grpSpPr>
        <p:sp>
          <p:nvSpPr>
            <p:cNvPr id="181" name="Line 52"/>
            <p:cNvSpPr/>
            <p:nvPr/>
          </p:nvSpPr>
          <p:spPr>
            <a:xfrm flipH="1">
              <a:off x="6400800" y="3886200"/>
              <a:ext cx="45720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Oval 35"/>
            <p:cNvSpPr/>
            <p:nvPr/>
          </p:nvSpPr>
          <p:spPr>
            <a:xfrm>
              <a:off x="6794640" y="3716280"/>
              <a:ext cx="304560" cy="30492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292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Text Box 54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8-1, page 18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nstantia"/>
              </a:rPr>
              <a:t>COMPONENT PERCENTAGE ANALYSIS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Constantia"/>
              </a:rPr>
              <a:t> OF AN INCOME STATEMENT</a:t>
            </a:r>
            <a:endParaRPr b="1" lang="en-US" sz="3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Picture 4" descr="D:\C21 PowerPoint\Multi_Journal\art for blue\Ch08\Ch08-01d.jpg"/>
          <p:cNvPicPr/>
          <p:nvPr/>
        </p:nvPicPr>
        <p:blipFill>
          <a:blip r:embed="rId2"/>
          <a:srcRect l="14817" t="0" r="0" b="52496"/>
          <a:stretch/>
        </p:blipFill>
        <p:spPr>
          <a:xfrm>
            <a:off x="457200" y="1905120"/>
            <a:ext cx="6635880" cy="4365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8-1, page 18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omponent Percentages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471240" y="4038480"/>
            <a:ext cx="2606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ff"/>
                </a:solidFill>
                <a:uFillTx/>
                <a:latin typeface="Times New Roman"/>
              </a:rPr>
              <a:t>Net Income %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52280" y="1981080"/>
            <a:ext cx="8991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Times New Roman"/>
              </a:rPr>
              <a:t>Total Expenses %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Total Expenses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   Total Sales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 Total Expense % 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Division 4"/>
          <p:cNvGrpSpPr/>
          <p:nvPr/>
        </p:nvGrpSpPr>
        <p:grpSpPr>
          <a:xfrm>
            <a:off x="2882880" y="2955960"/>
            <a:ext cx="628560" cy="635040"/>
            <a:chOff x="2882880" y="2955960"/>
            <a:chExt cx="628560" cy="635040"/>
          </a:xfrm>
        </p:grpSpPr>
        <p:pic>
          <p:nvPicPr>
            <p:cNvPr id="191" name="Division 4" descr=""/>
            <p:cNvPicPr/>
            <p:nvPr/>
          </p:nvPicPr>
          <p:blipFill>
            <a:blip r:embed="rId2"/>
            <a:stretch/>
          </p:blipFill>
          <p:spPr>
            <a:xfrm>
              <a:off x="2882880" y="2955960"/>
              <a:ext cx="628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032280" y="3222720"/>
              <a:ext cx="3362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Equal 5"/>
          <p:cNvGrpSpPr/>
          <p:nvPr/>
        </p:nvGrpSpPr>
        <p:grpSpPr>
          <a:xfrm>
            <a:off x="5473800" y="3029040"/>
            <a:ext cx="628560" cy="415800"/>
            <a:chOff x="5473800" y="3029040"/>
            <a:chExt cx="628560" cy="415800"/>
          </a:xfrm>
        </p:grpSpPr>
        <p:pic>
          <p:nvPicPr>
            <p:cNvPr id="194" name="Equal 5" descr=""/>
            <p:cNvPicPr/>
            <p:nvPr/>
          </p:nvPicPr>
          <p:blipFill>
            <a:blip r:embed="rId3"/>
            <a:stretch/>
          </p:blipFill>
          <p:spPr>
            <a:xfrm>
              <a:off x="5473800" y="3029040"/>
              <a:ext cx="6285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622840" y="3171960"/>
              <a:ext cx="3366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Division 6"/>
          <p:cNvGrpSpPr/>
          <p:nvPr/>
        </p:nvGrpSpPr>
        <p:grpSpPr>
          <a:xfrm>
            <a:off x="2577960" y="4937040"/>
            <a:ext cx="628920" cy="635040"/>
            <a:chOff x="2577960" y="4937040"/>
            <a:chExt cx="628920" cy="635040"/>
          </a:xfrm>
        </p:grpSpPr>
        <p:pic>
          <p:nvPicPr>
            <p:cNvPr id="197" name="Division 6" descr=""/>
            <p:cNvPicPr/>
            <p:nvPr/>
          </p:nvPicPr>
          <p:blipFill>
            <a:blip r:embed="rId4"/>
            <a:stretch/>
          </p:blipFill>
          <p:spPr>
            <a:xfrm>
              <a:off x="2577960" y="4937040"/>
              <a:ext cx="62892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727360" y="5203800"/>
              <a:ext cx="3366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Equal 7"/>
          <p:cNvGrpSpPr/>
          <p:nvPr/>
        </p:nvGrpSpPr>
        <p:grpSpPr>
          <a:xfrm>
            <a:off x="5168880" y="5084640"/>
            <a:ext cx="628560" cy="414360"/>
            <a:chOff x="5168880" y="5084640"/>
            <a:chExt cx="628560" cy="414360"/>
          </a:xfrm>
        </p:grpSpPr>
        <p:pic>
          <p:nvPicPr>
            <p:cNvPr id="200" name="Equal 7" descr=""/>
            <p:cNvPicPr/>
            <p:nvPr/>
          </p:nvPicPr>
          <p:blipFill>
            <a:blip r:embed="rId5"/>
            <a:stretch/>
          </p:blipFill>
          <p:spPr>
            <a:xfrm>
              <a:off x="5168880" y="5084640"/>
              <a:ext cx="6285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318280" y="5229360"/>
              <a:ext cx="3362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Rectangle 8"/>
          <p:cNvSpPr/>
          <p:nvPr/>
        </p:nvSpPr>
        <p:spPr>
          <a:xfrm>
            <a:off x="-152280" y="4952880"/>
            <a:ext cx="89154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Net Income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   Total Sales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    Total Income % 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nstantia"/>
              </a:rPr>
              <a:t>INCOME STATEMENT WITH TWO SOURCES OF REVENUE AND A NET LOSS</a:t>
            </a:r>
            <a:endParaRPr b="1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3" descr="D:\C21 PowerPoint\Multi_Journal\art for blue\Ch08\Ch08-01e.jpg"/>
          <p:cNvPicPr/>
          <p:nvPr/>
        </p:nvPicPr>
        <p:blipFill>
          <a:blip r:embed="rId2"/>
          <a:srcRect l="16338" t="0" r="5501" b="44150"/>
          <a:stretch/>
        </p:blipFill>
        <p:spPr>
          <a:xfrm>
            <a:off x="2936880" y="2163600"/>
            <a:ext cx="5749920" cy="376416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7238880" y="345924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2971800" y="28494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4343400" y="387504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8551800" y="38401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2743200" y="35352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8600" y="30542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enue Am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28600" y="23162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even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28600" y="34178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of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228600" y="2681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 Tit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Oval 13"/>
          <p:cNvSpPr/>
          <p:nvPr/>
        </p:nvSpPr>
        <p:spPr>
          <a:xfrm>
            <a:off x="2629080" y="528804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Oval 14"/>
          <p:cNvSpPr/>
          <p:nvPr/>
        </p:nvSpPr>
        <p:spPr>
          <a:xfrm>
            <a:off x="7508880" y="574524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228600" y="4525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rd Net Lo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228600" y="3787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tal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228600" y="415296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et Lo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7429320" y="71920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8-1, page 1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20:11:45Z</dcterms:created>
  <dc:creator>Mary Colleen McLaughlin</dc:creator>
  <dc:description/>
  <dc:language>en-US</dc:language>
  <cp:lastModifiedBy>David Combs</cp:lastModifiedBy>
  <cp:lastPrinted>1999-03-31T02:09:22Z</cp:lastPrinted>
  <dcterms:modified xsi:type="dcterms:W3CDTF">2012-11-26T16:48:21Z</dcterms:modified>
  <cp:revision>39</cp:revision>
  <dc:subject/>
  <dc:title>THE ACCOUNTING EQUATION</dc:title>
</cp:coreProperties>
</file>